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0691813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7520-5B12-4CE5-978E-753444ED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188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1767960"/>
            <a:ext cx="96188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600" y="4055760"/>
            <a:ext cx="96188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13E6-6BE6-4A91-985C-7331DA2B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188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1767960"/>
            <a:ext cx="46936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1767960"/>
            <a:ext cx="46936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4055760"/>
            <a:ext cx="46936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4055760"/>
            <a:ext cx="46936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B512-C3DE-4921-ABC3-C260E5C6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188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1767960"/>
            <a:ext cx="3097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6840" y="1767960"/>
            <a:ext cx="3097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39080" y="1767960"/>
            <a:ext cx="3097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600" y="4055760"/>
            <a:ext cx="3097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6840" y="4055760"/>
            <a:ext cx="3097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39080" y="4055760"/>
            <a:ext cx="3097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86E7-5D01-4A1F-AC75-AF6527BD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188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600" y="1767960"/>
            <a:ext cx="96188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84E9-0D8A-4018-9BC9-58517458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188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600" y="1767960"/>
            <a:ext cx="96188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9FEB-AA3D-4AC4-87E4-C06172BA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188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1767960"/>
            <a:ext cx="46936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1767960"/>
            <a:ext cx="46936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6C18-B6F6-45AB-8382-BAC86CCD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188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2D02-1516-4C1E-B318-F3041F21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188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F743-CA14-4122-991B-AA5D1A84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188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1767960"/>
            <a:ext cx="46936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1767960"/>
            <a:ext cx="46936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600" y="4055760"/>
            <a:ext cx="46936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0D86-B29D-4C1A-A851-85DEA93A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188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1767960"/>
            <a:ext cx="46936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1767960"/>
            <a:ext cx="46936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4055760"/>
            <a:ext cx="46936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879D-C5C4-418F-BA89-DBEFC53F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188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1767960"/>
            <a:ext cx="46936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1767960"/>
            <a:ext cx="46936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600" y="4055760"/>
            <a:ext cx="96188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9439-415C-43F0-B930-3F343363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188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600" y="1767960"/>
            <a:ext cx="96188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8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886440"/>
            <a:ext cx="24876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6160" y="6886440"/>
            <a:ext cx="3386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6200" y="6886440"/>
            <a:ext cx="24876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B5BE5-DF53-46B4-8130-332F996785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10688400" cy="7569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4600" y="1633680"/>
            <a:ext cx="962172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47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мысловое чтение как основа формирования функциональной грамотности на уроках 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10688400" cy="7569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4600" y="301680"/>
            <a:ext cx="9621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Arial"/>
              </a:rPr>
              <a:t>Умственная работа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17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Навык умственной работы не берется из ниоткуда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Упражнения, которые ребенок выполняет, работая с текстом, и формируют этот навык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10688400" cy="7569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1680"/>
            <a:ext cx="9621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Arial"/>
              </a:rPr>
              <a:t>Типы упражнений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17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Дотекстовы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Текстовы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Послетекстовы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10688400" cy="75693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4600" y="301680"/>
            <a:ext cx="9621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Arial"/>
              </a:rPr>
              <a:t>Дотекстовые упражнения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17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 fontScale="70000"/>
          </a:bodyPr>
          <a:p>
            <a:pPr marL="302040" indent="0" algn="ctr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1. Taboo.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Название темы, которой посвящен текст — это табу: замените его другим словом или бессмысленным набором звуков и попробуйте рассказать ученикам, о чем будет текст. Например, текст посвящен проблеме мобильных телефонов на уроках и учитель загадывает слово telephone: “we cannot imagine our life without iggily biggily; first prototype of iggily biggily was invented in 1876 by Alexander Bell.”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10688400" cy="7569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4600" y="1768320"/>
            <a:ext cx="96217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 fontScale="64000"/>
          </a:bodyPr>
          <a:p>
            <a:pPr marL="276120" indent="0" algn="ctr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2. Brainstorm.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75040" indent="-20736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Задайте тему и с помощью учеников запишите все связанные с этой темой слова, которые помнят ученики.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75040" indent="-20736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Другой вариант мозгового штурма основан на лексике из текста: предложите ученикам проанализировать список слов к тексту и назвать его тематику.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75040" indent="-20736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В сильной группе устройте «идейный» мозговой штурм: попросите учеников поделиться своими знаниями и мнениями по данному вопросу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10688400" cy="7569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4600" y="1768320"/>
            <a:ext cx="96217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 fontScale="71000"/>
          </a:bodyPr>
          <a:p>
            <a:pPr marL="306360" indent="0" algn="ctr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3. Anecdote / storytelling.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05280" indent="-2300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Ученики обожают преподавателей, которые рассказывают истории из своей жизни во время урока. Вспомните или придумайте подходящий по теме случай и превратите в lead-in для текста: чем больше юмора и неожиданных сюжетных поворотов, тем интереснее.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05280" indent="-2300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Постарайтесь сделать рассказ не слишком длинным, чтобы успеть разобрать текст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10688400" cy="7569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534600" y="1768320"/>
            <a:ext cx="96217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 fontScale="66000"/>
          </a:bodyPr>
          <a:p>
            <a:pPr marL="284760" indent="0" algn="ctr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4. Move if you...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83680" indent="-2138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Классическое задание для lead-in — обсудить вопрос или лексику из текста. Добавьте к дискуссии подвижный элемент: чтобы согласиться с утверждением или оспорить его, ученики выполняют определенные движения.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83680" indent="-2138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Например: “stand up if you agree that mobile phones should be banned in schools.” Подобный формат не требует большого словарного запаса и подходит начинающим группам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10688400" cy="7569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34600" y="1768320"/>
            <a:ext cx="96217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 fontScale="81000"/>
          </a:bodyPr>
          <a:p>
            <a:pPr marL="349560" indent="0" algn="ctr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5. Conditionals.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8120" indent="-2624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Обратитесь к личному опыту учеников: предложите поразмышлять над темой текста с помощью условных предложений “if I were... I would…”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8120" indent="-2624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Выберите картинку, предложение из текста или близкую по смыслу цитату, чтобы начать обсуждение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10688400" cy="756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4600" y="301680"/>
            <a:ext cx="9621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Arial"/>
              </a:rPr>
              <a:t>Текстовые упражнения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17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 fontScale="70000"/>
          </a:bodyPr>
          <a:p>
            <a:pPr marL="30204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1. чтение текста и его устный перевод;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2. составление плана как простого, так и сложного (в зависимости от уровня владения языком учащихся);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3. выписать из текста предложения с определенными словами (слова определяются учителем), дать их письменный перевод;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4. заполнить пропуски в предложениях словами из текста;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10688400" cy="75693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4600" y="1768320"/>
            <a:ext cx="96217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 fontScale="78000"/>
          </a:bodyPr>
          <a:p>
            <a:pPr marL="33660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5. определить правильность суждения (не обязательно, чтобы суждения были дословно взяты из текста, они могут передавать смысл, но это также зависит от уровня учащихся);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6. составление предложений из перемешанных слов;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7. предложения с грамматическими или фактическими ошибками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10688400" cy="7569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600" y="301680"/>
            <a:ext cx="9621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7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ослетекстовые упражн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17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 fontScale="69000"/>
          </a:bodyPr>
          <a:p>
            <a:pPr marL="29772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1. при наличии в тексте главных героев, дать характеристику их действиям;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9772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2. сказать, какое из высказываний наиболее точно передает основную мысль текста. Обосновать свой ответ;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9772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3. рассказать текст от лица главного героя (злодея, наблюдателя, журналиста и т. д.);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9772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4. кратко изложить содержание текста/составить аннотацию к тексту/дать рецензию на текст и т. д.;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10688400" cy="7569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34600" y="934920"/>
            <a:ext cx="9621720" cy="60516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Смысловое чтение</a:t>
            </a: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 – вид чтения, которое нацелено на глубинное понимание читающим смыслового содержания текста.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Для смыслового понимания недостаточно просто прочесть текст, необходимо </a:t>
            </a: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дать оценку информации</a:t>
            </a: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, откликнувшись на содержание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10688400" cy="7569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4600" y="1768320"/>
            <a:ext cx="96217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 fontScale="76000"/>
          </a:bodyPr>
          <a:p>
            <a:pPr marL="32796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5. придумать, что могло бы случиться, если бы... Придумать новый конец текста;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2796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6. придумать новое название;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2796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7. подобрать/отобрать пословицы, которые подходят по смыслу к данной ситуации и наиболее точно передают идею текста;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2796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8. взяв за основу ситуацию текста, написать собственный текст в другом жанре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10688400" cy="7569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301680"/>
            <a:ext cx="9621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Arial"/>
              </a:rPr>
              <a:t>Что важно?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17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 fontScale="71000"/>
          </a:bodyPr>
          <a:p>
            <a:pPr marL="305280" indent="-2300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Мы читаем </a:t>
            </a:r>
            <a:r>
              <a:rPr b="0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≠ понимаем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05280" indent="-2300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Ребенок, учащийся читать и читающий по слогам, не всегда понимает прочитанное. Некоторые дети навсегда остаются на уровне механического проговаривания слов без их осмысления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05280" indent="-2300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Подросток, бегло читающий, но на ОГЭ или ЕГЭ не дочитывающий задание до конца либо теряющий смысловую нить, не владеет навыком смыслового чтения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10688400" cy="7569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4600" y="301680"/>
            <a:ext cx="9621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Arial"/>
              </a:rPr>
              <a:t>О беглости чтения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17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 fontScale="59000"/>
          </a:bodyPr>
          <a:p>
            <a:pPr marL="253800" indent="-19116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Скорость чтения, как ни странно, является прямым показателем навыка осмысленного чтения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53800" indent="-19116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Неправильно считать советских учителей глупыми. Они знали, что делают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53800" indent="-19116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Ребенок, читающий бегло, но не дочитывающий, - это жертва скрин-чтения. Скрин не предполагает удержание внимания более 5 секунд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53800" indent="-19116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Самый яркий пример скрин-текста — это текст демотиватора. Краткий тезис в полстроки-строку и под ним не более строки длиной тезис, уточняющий / подкрепляющий первый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10688400" cy="7569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301680"/>
            <a:ext cx="9621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Arial"/>
              </a:rPr>
              <a:t>Что формирует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17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 fontScale="90000"/>
          </a:bodyPr>
          <a:p>
            <a:pPr marL="387000" indent="-29160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Навык смыслового чтения да и мотив к чтению как таковой формирует читающее окружение.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87000" indent="-29160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Эксперимент в США: дети, в доме которых есть библиотека, успешнее в будущем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87000" indent="-29160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Гаджеты могут «похоронить» чтение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10688400" cy="7569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680"/>
            <a:ext cx="9621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Arial"/>
              </a:rPr>
              <a:t>Что формирует в школе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17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 fontScale="94000"/>
          </a:bodyPr>
          <a:p>
            <a:pPr marL="404280" indent="-30456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Упражнения на смысловое чтение. На любом уроке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04280" indent="-30456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Прямая связь оценки с восприятием текстовой информации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04280" indent="-30456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Включение упражнений на смысловое чтение в уроки по всем дисциплинам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10688400" cy="7569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4600" y="301680"/>
            <a:ext cx="9621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Arial"/>
              </a:rPr>
              <a:t>Текст для чтения — какой?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17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Не обязательно длинный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Обязательно приводящий к неочевидным выводам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Требующий умственных усилий для понимания сути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10688400" cy="7569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301680"/>
            <a:ext cx="9621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Arial"/>
              </a:rPr>
              <a:t>Не обязательно длинный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17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Мы все измеряем, к сожалению, символами, строками, абзацами…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Иногда очень короткий текст оказывается значительно более содержательным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Хемингуэй поспорил...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10688400" cy="7569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4600" y="301680"/>
            <a:ext cx="9621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Arial"/>
              </a:rPr>
              <a:t>Неочевидное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17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 fontScale="76000"/>
          </a:bodyPr>
          <a:p>
            <a:pPr marL="326880" indent="-2462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Если все понятно, то в чем упражнение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26880" indent="-2462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Давайте посмотрим на рассказ Хемингуэя. Отсроченность понимания причины, по которой продаются ботиночки, оказывается главной причиной ошеломляющего эффекта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26880" indent="-2462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И чтобы понять, что произошло, требуется умственная и душевная работа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26880" indent="-2462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Текст должен требовать работы.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15T10:24:13Z</dcterms:created>
  <dc:creator/>
  <dc:description/>
  <dc:language>en-US</dc:language>
  <cp:lastModifiedBy/>
  <dcterms:modified xsi:type="dcterms:W3CDTF">2021-12-23T06:48:47Z</dcterms:modified>
  <cp:revision>11</cp:revision>
  <dc:subject/>
  <dc:title/>
</cp:coreProperties>
</file>