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B24-7AD1-4BC5-9CEF-FBFFF34D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ED2-8BAB-429C-B2CA-5FFAAF3B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F4CAE-92A0-4DCE-9CB3-090B0BF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15F87-7C1D-4915-AC91-D6C554F0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E9633-2D9B-4886-95DA-E5A3C73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3A30C-13CC-438D-89FA-CFFE2B07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6C6D7-6537-4977-B2AB-3097BD5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DFBD3-AF85-453B-B19F-A7D98031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56735-4587-4A9A-A5DC-C427E9C7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0963C-7ED9-414B-8517-B4E6352E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02BEF-ECC2-4C09-9C23-7C667D8F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A3363-B5A1-4567-9BC5-DB582E96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9AC-EA5E-48D3-A562-7C1C350D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5E995-FD6B-47D8-9038-22F43ACF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51771-F15A-4A4D-991A-1A32F24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452DD-2768-4CDA-8D2B-C372A421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27A0B-F85B-4027-BC93-7424BD6D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32C02-942E-4FC9-B2DE-F8F1A8F8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EB394-23B2-4E4C-B860-1C01F97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BA853-DD0F-4D85-BFD3-6EFB2799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279DD-798A-444F-8EFE-022FD166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C3F44-FCAA-4C7F-8839-B8C0E37A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AB987-F872-4FE9-9EAD-811969E1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366-D59F-441C-94E3-6CE46186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8CE27-5D67-4726-91FC-C1EF50C3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93450-473F-4B89-97A8-E33BFEB1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84675-F28C-47C4-B1C3-7628CDBF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11CC1-AF8A-45DC-9428-6D1CFECF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E3FA1-1E2A-4A8A-B0A8-0076E591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69C64-FD9C-40C8-825C-55674D5F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B0B9B-0798-4D29-8E8D-54376433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2D010-3ADC-44BA-9C9B-92842558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359D7-B380-4BF9-B389-5C16D34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9611E-137A-4CF2-906A-0A4A170A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C77F-D813-416D-BEE0-82255F1A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873FA-E0EC-4330-872C-2641EB79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A49FE-3485-4653-8CAC-52D3BD36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5DE4F-41E4-42C9-B048-7F8DDBE4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8BF9-845C-4E45-9C6E-A358ED4A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21AD-D177-4F66-BE83-977477A5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E137-1161-48A7-A8CE-34A42622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787B-4F1C-4A4D-9AC1-1CFB567B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6D85-EA97-4804-A319-B7C9F5D6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A76F-E7F4-43C8-8D63-3F8AD03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05A-F29D-45B3-9B4C-52415F06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D5DE-EA02-48AA-B3C2-3E8E724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4FCF-21B7-47BC-8F69-4E365B9B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3515-9764-42AA-B05F-6F2F7427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C4BE-BE88-49D7-AA22-230E2379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47CE-9A61-4F25-9368-9027928E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98F7-44BD-4A12-A855-C36149EF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45A0-876B-415F-ACD7-0D36F45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874B9-7070-47E0-9B47-C5AE4F96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A674-7668-4338-8D6C-6451048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D965-4807-46D2-AA2F-9A78E24A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F06-5285-4171-A488-118B1925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CDAB-C4DF-4006-B01E-14299717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CD60-4880-451D-BFC6-B9BAED08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4F8B-E70B-4C34-9928-39396E7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6495-DA9B-4336-ADB6-10D3F0D9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3CE2-EFA5-456E-AB78-8C4E14D0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A877-0F84-42FD-8B6A-4E17D7B7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DF4C-897F-4DC5-BDC5-0838E1FE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FC944-1585-48B3-8AA9-AB6FED8D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0B7B-A544-430A-9049-5787CF5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58D32-2DE3-42F3-BE4D-81E5E14B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9A1-B32D-48ED-8A54-FFFF02C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4207-A305-43A2-A31F-EC81297C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A273A-8B30-47AE-B67E-839158E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2687-BDF3-41A3-8B91-39AFFFB1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7B31-7B0B-4C4F-93C3-B9BEA64E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C1BD0-F7F9-417C-A896-8D7B165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3542-EF6C-487D-A97A-E0A40C4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3EFF4-BC42-4D57-B9AB-B156F960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5BA31-27E5-410D-9ADA-F5E5A3EB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FE35-62F2-40B3-A38B-19424DCE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01F4-15D5-4357-8B7F-55A5554D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96F-A363-4225-8A3E-40F1E67E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F551-4EA1-428B-A4CA-B3DC7D4C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B18B-55F3-4E7A-B0A7-AA2278EE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2C12B-BABE-4B5A-80A1-65104F10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AE87-7C76-46DD-BD02-2AB1BDEE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7EB17-5970-4DC1-8CAD-2B18E0E1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7456-E8DC-4C63-9DF3-6064736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21DFA-7D89-4184-B604-88927B3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217BF-665F-4920-AC2B-8AE9BDE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5352-A89B-4B92-8B1A-C93AC9C4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534B-8800-430A-8723-C2DB4C04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AAB-6F93-4669-B9AA-6C0BF3CB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AD91E-47FA-45B2-A62D-24DF9E08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B5E77-2B99-431B-B82C-3007AF9A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C3E4-69F7-410B-925B-1D8617EB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BFE70-F604-49E9-9225-11D357BE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1AF8C-D675-4F7D-89A1-C331DFDE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FFC61-2D0D-4DB3-9E80-232801FF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075EE-CF2A-4BEE-BA91-061C09A6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D1E6-04AD-4FF2-B428-8404D6E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72CC1-F88F-489D-A544-0FCA00F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DF506-58B5-48CB-9CDA-4943A5A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751-5040-4B30-8D89-0E0FA2A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86C21-B05A-42B4-9757-F689E914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AC2DA-664A-47A1-8B20-A69609B3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4EC44-4F4C-40A7-B628-A7518DE2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D0A8E-CC2E-48EA-B156-74E78E56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1A49E-6300-4F6C-A1D1-BC349CD6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9417E-0829-46F8-896B-C692B907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1DD82-5FA8-4049-8670-4385CF69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F8D81-CB19-4D57-887E-A740BD4B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5C99F-C709-4578-823C-180736BD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9548F-C3B4-4E34-92D4-50DF9EBF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6FD-3D89-466C-B418-C9A114A3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9D4A0-919A-4347-A80F-B313520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F22D8-B8CA-4211-A468-EE5B936D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414D7-EC49-40E8-91F3-6AE34548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3C7E-A24E-4022-A1A2-E068E5CF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03876-D23F-4112-8642-6F03A4A9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69F65-4399-47AC-A317-00CC979F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94C6-CA20-47D1-8F45-59FF2FAD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48DF8-A8E0-4287-8BB0-7A699037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F55F4-FDE8-41CC-A149-19CD4CE4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F46AE-90EF-48B5-9CE5-B1886FF5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5B9-6DF5-4669-981C-818CDACA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18B4D-6081-4A29-9BB9-1F3E4DDC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A7906-43CA-4E8F-9F45-382D7B2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4CAE-34F6-46E9-B1DE-00BB05A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E3B74-1C10-4AA2-9AF1-8993ABB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5BB45-7707-4778-B429-40C0FDB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BE0EC-2F41-4ED8-AA10-BD0FA002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85F6C-9E73-4DF6-A67B-7724AFE9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97AAC-0696-4D97-9706-4900E5A0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6E9A1-8394-4F52-A7BB-304F60A5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984F8-5230-486E-8886-7C0F585F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5C66-E003-4861-964B-45854CC56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C6D7-E2ED-4A4E-8E8B-161E7A714CF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39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504B-3A0F-4364-A7CF-476EF742FFF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9A37-5003-4E1F-A8EE-754F8F8AE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74F7-766E-4056-9E94-00CDD21A7CF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5C45-8BB1-4618-822D-2DC023293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BD50-1D0C-461B-9888-E21CED764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222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121-D56F-4767-8131-588C4171B9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69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74A7-2A28-43D2-B69C-9CA98126AB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CE65-0BD7-498E-803E-DB20C89435E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F00E-BD46-4AF2-9C31-45A678ED0B0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езентация к уроку окружающего мира на тему:  КРАСНАЯ КНИГА</a:t>
            </a: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3кл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               </a:t>
            </a: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         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Презентацию подготовила уч. нач. классов 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                                                           Белякова  Галина Николаевна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                                                          МБОУ СОШ № 10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                    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0" name="Picture 2" descr="C:\Users\Игорь\Desktop\0020-020-Lekarstvennoe-jadovitoe-rastenie-osobenno-jagody-i-korni.jpg"/>
          <p:cNvPicPr/>
          <p:nvPr/>
        </p:nvPicPr>
        <p:blipFill>
          <a:blip r:embed="rId1"/>
          <a:stretch/>
        </p:blipFill>
        <p:spPr>
          <a:xfrm>
            <a:off x="990720" y="228600"/>
            <a:ext cx="7940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Picture 2" descr="C:\Users\Игорь\Desktop\Новая папка\wolf01.jpg"/>
          <p:cNvPicPr/>
          <p:nvPr/>
        </p:nvPicPr>
        <p:blipFill>
          <a:blip r:embed="rId1"/>
          <a:stretch/>
        </p:blipFill>
        <p:spPr>
          <a:xfrm>
            <a:off x="1417680" y="228600"/>
            <a:ext cx="75438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87560" y="293760"/>
            <a:ext cx="78292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спользованные источники:</a:t>
            </a:r>
            <a:br>
              <a:rPr sz="24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ttp://www.ecoworld.ru/proj200…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2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3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ttp://900igr.net/fotografii/o…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5" name="Прямоугольник 3"/>
          <p:cNvSpPr/>
          <p:nvPr/>
        </p:nvSpPr>
        <p:spPr>
          <a:xfrm>
            <a:off x="1371600" y="19144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Arial"/>
              </a:rPr>
              <a:t>http://www.pipcindom.ru/showth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оугольник 4"/>
          <p:cNvSpPr/>
          <p:nvPr/>
        </p:nvSpPr>
        <p:spPr>
          <a:xfrm>
            <a:off x="1225440" y="3105000"/>
            <a:ext cx="56325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4b2203"/>
                </a:solidFill>
                <a:latin typeface="Arial"/>
              </a:rPr>
              <a:t>http://www.proflowers.ru/art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36440" y="274320"/>
            <a:ext cx="7862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c4853"/>
                </a:solidFill>
                <a:latin typeface="Corbel"/>
              </a:rPr>
              <a:t>Исчезнувшие виды животных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86" name="Picture 4" descr="C:\Users\Игорь\Desktop\Новая папка\images.jpeg"/>
          <p:cNvPicPr/>
          <p:nvPr/>
        </p:nvPicPr>
        <p:blipFill>
          <a:blip r:embed="rId1"/>
          <a:stretch/>
        </p:blipFill>
        <p:spPr>
          <a:xfrm>
            <a:off x="960480" y="838080"/>
            <a:ext cx="3611520" cy="2835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C:\Users\Игорь\Desktop\Новая папка\4.jpeg"/>
          <p:cNvPicPr/>
          <p:nvPr/>
        </p:nvPicPr>
        <p:blipFill>
          <a:blip r:embed="rId2"/>
          <a:stretch/>
        </p:blipFill>
        <p:spPr>
          <a:xfrm>
            <a:off x="4630680" y="1127160"/>
            <a:ext cx="4132440" cy="254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C:\Users\Игорь\Desktop\Новая папка\default.jpeg"/>
          <p:cNvPicPr/>
          <p:nvPr/>
        </p:nvPicPr>
        <p:blipFill>
          <a:blip r:embed="rId3"/>
          <a:stretch/>
        </p:blipFill>
        <p:spPr>
          <a:xfrm>
            <a:off x="1006560" y="3855960"/>
            <a:ext cx="3413160" cy="2819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C:\Users\Игорь\Desktop\Новая папка\defaultе.jpeg"/>
          <p:cNvPicPr/>
          <p:nvPr/>
        </p:nvPicPr>
        <p:blipFill>
          <a:blip r:embed="rId4"/>
          <a:stretch/>
        </p:blipFill>
        <p:spPr>
          <a:xfrm>
            <a:off x="4576680" y="3792600"/>
            <a:ext cx="4322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C:\Users\Игорь\Desktop\Новая папка\о.jpeg"/>
          <p:cNvPicPr/>
          <p:nvPr/>
        </p:nvPicPr>
        <p:blipFill>
          <a:blip r:embed="rId1"/>
          <a:stretch/>
        </p:blipFill>
        <p:spPr>
          <a:xfrm>
            <a:off x="2301840" y="182520"/>
            <a:ext cx="5394240" cy="3216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C:\Users\Игорь\Desktop\Новая папка\н.jpeg"/>
          <p:cNvPicPr/>
          <p:nvPr/>
        </p:nvPicPr>
        <p:blipFill>
          <a:blip r:embed="rId2"/>
          <a:stretch/>
        </p:blipFill>
        <p:spPr>
          <a:xfrm>
            <a:off x="1311120" y="3413160"/>
            <a:ext cx="7588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1188720" y="320760"/>
            <a:ext cx="7745400" cy="59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3" name="Picture 4" descr="C:\Users\Игорь\Desktop\Новая папка\rasteniya_krasnoy_knigi_rossii.jpg"/>
          <p:cNvPicPr/>
          <p:nvPr/>
        </p:nvPicPr>
        <p:blipFill>
          <a:blip r:embed="rId1"/>
          <a:stretch/>
        </p:blipFill>
        <p:spPr>
          <a:xfrm>
            <a:off x="1143000" y="365040"/>
            <a:ext cx="3398760" cy="49532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C:\Users\Игорь\Desktop\b7b62a79edb6b052a3951301f5db110c.jpg"/>
          <p:cNvPicPr/>
          <p:nvPr/>
        </p:nvPicPr>
        <p:blipFill>
          <a:blip r:embed="rId2"/>
          <a:stretch/>
        </p:blipFill>
        <p:spPr>
          <a:xfrm>
            <a:off x="4572000" y="304920"/>
            <a:ext cx="438948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1050840" y="320400"/>
            <a:ext cx="7894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6" name="Picture 2" descr="C:\Users\Игорь\Desktop\i.jpeg"/>
          <p:cNvPicPr/>
          <p:nvPr/>
        </p:nvPicPr>
        <p:blipFill>
          <a:blip r:embed="rId1"/>
          <a:stretch/>
        </p:blipFill>
        <p:spPr>
          <a:xfrm>
            <a:off x="1020600" y="304920"/>
            <a:ext cx="4313520" cy="4572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C:\Users\Игорь\Desktop\пп.jpeg"/>
          <p:cNvPicPr/>
          <p:nvPr/>
        </p:nvPicPr>
        <p:blipFill>
          <a:blip r:embed="rId2"/>
          <a:stretch/>
        </p:blipFill>
        <p:spPr>
          <a:xfrm>
            <a:off x="5318280" y="2468520"/>
            <a:ext cx="364320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C:\Users\Игорь\Desktop\Новая папка\ш.jpeg"/>
          <p:cNvPicPr/>
          <p:nvPr/>
        </p:nvPicPr>
        <p:blipFill>
          <a:blip r:embed="rId1"/>
          <a:stretch/>
        </p:blipFill>
        <p:spPr>
          <a:xfrm>
            <a:off x="1020600" y="244440"/>
            <a:ext cx="7910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1" name="Picture 2" descr="C:\Users\Игорь\Desktop\p62_0015-015-chistotel.jpg"/>
          <p:cNvPicPr/>
          <p:nvPr/>
        </p:nvPicPr>
        <p:blipFill>
          <a:blip r:embed="rId1"/>
          <a:stretch/>
        </p:blipFill>
        <p:spPr>
          <a:xfrm>
            <a:off x="1270080" y="289080"/>
            <a:ext cx="7675560" cy="62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4" name="Picture 2" descr="C:\Users\Игорь\Desktop\p62_0008-008-borschevik.jpg"/>
          <p:cNvPicPr/>
          <p:nvPr/>
        </p:nvPicPr>
        <p:blipFill>
          <a:blip r:embed="rId1"/>
          <a:stretch/>
        </p:blipFill>
        <p:spPr>
          <a:xfrm>
            <a:off x="1036800" y="289080"/>
            <a:ext cx="7924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7" name="Picture 2" descr="C:\Users\Игорь\Desktop\img11.jpg"/>
          <p:cNvPicPr/>
          <p:nvPr/>
        </p:nvPicPr>
        <p:blipFill>
          <a:blip r:embed="rId1"/>
          <a:stretch/>
        </p:blipFill>
        <p:spPr>
          <a:xfrm>
            <a:off x="1235160" y="198360"/>
            <a:ext cx="790884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13:37Z</dcterms:created>
  <dc:creator>qwerty</dc:creator>
  <dc:description/>
  <cp:keywords>шаблон для презентаций</cp:keywords>
  <dc:language>en-US</dc:language>
  <cp:lastModifiedBy>ИГОРЬ</cp:lastModifiedBy>
  <dcterms:modified xsi:type="dcterms:W3CDTF">2022-06-06T18:35:21Z</dcterms:modified>
  <cp:revision>12</cp:revision>
  <dc:subject/>
  <dc:title>Слайд 1</dc:title>
</cp:coreProperties>
</file>